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F7B03-FE1D-4186-B1A0-928092E59A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-level applications (primarily, business oriented) employing Visual FoxPro (VFP) 8 and 9, Visual MaxFrame Professional (VMP), Stonefield Database Toolkit (SD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163E-C987-4A84-AEA2-4D6FE3044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2CC0-BD67-43F5-BE1D-84BE239EB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E6DD-CEDD-41F9-972B-C703AF40D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C84B-B625-497C-A103-DEEF57C5E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86FCDF-087C-4CFD-841A-50F79911D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EF4414-A43F-42B0-B0D6-07263CD35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295870-C782-4608-BCA3-08808C3EB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51072B-74AB-457C-B835-488147F3F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841E7A-825E-4410-BBAF-58F75A349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8CD946-5967-425C-9D0E-576DD4AEC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46A694-3BAC-4B80-967A-ACB75EC8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87F7-C502-4A95-B8BE-C5A167709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E2E1E2-13E3-4055-A817-5CA8E137E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3A6B71-6285-4B15-831E-B456746F5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B508ED-C72B-4C35-9FDD-64D2A824A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27A39D-419A-463B-BA81-57242CCAB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841C8C-9500-4187-9122-6C7B90E26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3B86-8C26-44D5-B5CF-0EAECA55F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6576-BC4A-4FB1-A890-4473D55B0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1CAA-343C-44DD-B0DB-A83E5BFF6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E5D4-27DC-4910-9662-1BDD7DEC9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16FB-4874-456B-996E-F9C11F73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8403-2C79-46C4-9B97-BAEE0682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8B1E-62D4-4722-AD89-89072EE8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BD85F-E18C-4B5F-ACB1-35ED335738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F19CE-1651-474E-A9AE-2A2BC58100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7640" y="243000"/>
            <a:ext cx="314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os Angeles – June 12, 20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27 (or so) Habits of Highly Effective VFP Developers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t Bergqui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isionp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Debugging errors in </a:t>
            </a: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produc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SSAGEBOX('&lt;n&gt;. ' + PROGRAM() + ' ...'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rite text to a log f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VFP 9, call SET COVERAGE TO 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ther practic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mploy “white space” in your cod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ith respect to macro substitution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bring “closure”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don’t embed them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haracter (string, text) delimiter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ump unnecessary leading equals sig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se the "C" flavor/variation of string functio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mploy LEFTC(&lt;string&gt;, &lt;n&gt;) in lieu of SUBSTR…(&lt;string&gt;, 1, &lt;n&gt;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place ! with NO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but) employ "positive" logic whenever possib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hen indenting, indent two (2) spac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right-)align comments and semicolons in “compound statements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mploy # in lieu of &lt;&gt; and !=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"Normalize" case when comparing character expressio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mploy TEXT…ENDTEXT for “cleaner” cod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initializing 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grid column’s .ControlSour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memory variable to a SQL-SELECT str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 array to be the RowSource for a combobox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ming into the final stretch 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ACE() … the final fronti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nding and replacing text in the Command Windo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 pizzazz to your forms with Wingdings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PF-ing under various circumstan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formance vs. maintainabi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eing all GetPict()-supported file typ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iminating all errors in your VFP cod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final wor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is not the final word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o Am I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nior Consultant at Visionpa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icrosoft Visual FoxPro MC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uthor of articles and tips in FoxPro Advisor and FoxTalk magazi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ve tech-edited articles for FP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orked with Drew Speedie for over 6½ yea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ice President of the FPDN/S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ather of 4 future VFP developers &lt;g&g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Options to facilitate dev. in VFP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ools | Option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View ta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os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cently Used (MRU) l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is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splay cou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ditor ta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ackground color of Strings (etc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oreground color of Comments (etc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Naming Conventions!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sta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jec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riab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eld Names within Tab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Keyboard shortcu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keyboard is your friend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n circles around mouse-only developers (a.k.a., mousers &lt;g&gt;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py- (or Cut)-and-paste rather than re-type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vents inadvertent typ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intains consistency (e.g., of capitalizatio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USE IN SELECT(&lt;Work Area&gt;)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o close a work area rather tha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F NOT USED(&lt;Work Area&gt;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USE IN '&lt;Work Area&gt;'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NDIF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d rather tha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USE IN '&lt;Work Area&gt;'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Employ SQL-SELECTs “TO SCREEN” clause 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o determine if a record exis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thods for complex Dynamic… grid settin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283500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s.Column1.Dynamic… = [ThisForm.&lt;Method Name&gt;()]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lieu of IIF() expressions or even an ICASE() expression (new to VFP 9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30T21:29:58Z</dcterms:created>
  <dc:creator>3M HIS</dc:creator>
  <dc:description/>
  <dc:language>en-US</dc:language>
  <cp:lastModifiedBy>Art Bergquist</cp:lastModifiedBy>
  <dcterms:modified xsi:type="dcterms:W3CDTF">2007-06-12T21:12:04Z</dcterms:modified>
  <cp:revision>137</cp:revision>
  <dc:subject/>
  <dc:title>Slide 1</dc:title>
</cp:coreProperties>
</file>